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DB5-37D5-48A8-A107-3C3391B7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E96-37A4-47C5-96C0-67073C96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BF9-A232-403E-8CA7-DD491E36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52A-E512-44CC-A7AA-497DD288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B78-B2C9-407D-B634-630865B9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9D4-E9B9-408C-BBA0-ADC4EAEE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167-CB2B-431B-B4CD-3AEBA88A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308-D3D5-402C-A144-F9E98A78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F62-D860-43BE-9924-F1997B5F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38F-8074-4D81-8952-49049FB7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45B-AB18-428A-8B9A-5D06056B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6C3-9A13-440F-9F44-A970F586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3901-D0BD-48BC-8FE0-459F775F6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4280" y="68544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Jingle Danc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05520" y="3962520"/>
            <a:ext cx="3657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6* Week 5*Day 4 Sentence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Cj01886890000[1]"/>
          <p:cNvPicPr/>
          <p:nvPr/>
        </p:nvPicPr>
        <p:blipFill>
          <a:blip r:embed="rId1"/>
          <a:stretch/>
        </p:blipFill>
        <p:spPr>
          <a:xfrm>
            <a:off x="304920" y="304920"/>
            <a:ext cx="4676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-54000" y="22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2286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My neighbor and I had quite an adventure selling clothes at the midyear auctio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-54000" y="22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2286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Mrs. Rauls taught us to draw with chalk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-54000" y="22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 finally caught the baseball after hours of awkward mistakes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-54000" y="22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2286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We paid our money and saw an action pictur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-54000" y="22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5868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he only thing Mom said was, “It’s always naughty to misbehave.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-54000" y="22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2286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 have a question about the culture show in August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20:57:16Z</dcterms:created>
  <dc:creator>llefever</dc:creator>
  <dc:description/>
  <dc:language>en-US</dc:language>
  <cp:lastModifiedBy>teacher</cp:lastModifiedBy>
  <dcterms:modified xsi:type="dcterms:W3CDTF">2011-05-07T16:20:13Z</dcterms:modified>
  <cp:revision>3</cp:revision>
  <dc:subject/>
  <dc:title>Jingle Danc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13098201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powerpoints</vt:lpwstr>
  </property>
</Properties>
</file>